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C0FEB-8A02-4730-B29B-24CB1986C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CAA01-901B-4C75-9574-6E3B0178F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70889-3DAF-49B8-8EF3-5388ED0F3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08915-188C-48D5-B87A-55290383F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6B542-F233-4C32-BC75-882B49B4E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0B04E-0360-43B1-9BC8-75A18E097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0A4D9-7EA5-44D1-95BD-925C99461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369BC-552A-4779-B5A0-A0410673F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607A6-7FCC-4623-B146-C252E5B2F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B0761-78FE-4643-A446-FE064C0FE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9C479-CC8C-4A22-930B-4D4518659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6413E-BFEC-4E02-A598-80FACA220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38BDB-0EB9-44CA-8020-1B5151B71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A5C6C-4414-46A5-93BA-5BC6625A7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6C328-FFAD-4DCD-8FCD-2B68D304A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19FB1-5C50-4215-9BEE-1C274EAF2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6A1B4-1D77-4E16-9F6C-4F3CC9FD6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BFC29-D0C9-4839-9837-11A8F97B5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C0E88-8603-4864-8C54-F363CBDD5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ED22C-B0D4-456A-B351-D54319C0C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6480C-02A1-41ED-832C-54A454604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6CD99-E244-4E97-A247-D972D3293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FF6AD-DCF1-4B59-8AF3-7F983A397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382E1-F4BB-48AC-8935-738B77F3D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F5732-0F58-4598-91F8-A1972E66A3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673B4-D852-433A-B312-2EC8267631A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The Persian War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837720" y="3886200"/>
            <a:ext cx="7696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Read pages 52-53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Notes: Lesson 4 in the packe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Describe the beginning of the Persian War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me city-states came under the control of the Persia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iletus rebelled against Persia, the Athenians helped the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Persians were angry at the Athenians and wanted to punish the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Explain the battle at Marathon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Persians and Athenians fought at marathon (26 miles from Athen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thens was outnumbered, but they w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messenger was sent to run to Athens, after he told everyone the good news, he died. This is how we got the word “Marathon”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s was a very important battle, it gave Athens self-confide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The battle of Thermopylae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thens and Sparta unite against Pers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y fought on a narrow pass between the cliffs and the se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traitor showed the Persians a secret way around the pa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Greeks lost the batt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Xerxes (Persian King) burned Athens to the grou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The Battle of Salami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eks and Persians clashed at an island named Salam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eks new the water bet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Greeks rammed the Persian ships and sank the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Greeks W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0T21:15:05Z</dcterms:created>
  <dc:creator>Information Technology</dc:creator>
  <dc:description/>
  <dc:language>en-US</dc:language>
  <cp:lastModifiedBy>Beth Beenken</cp:lastModifiedBy>
  <dcterms:modified xsi:type="dcterms:W3CDTF">2010-09-21T02:38:13Z</dcterms:modified>
  <cp:revision>4</cp:revision>
  <dc:subject/>
  <dc:title>The Persian War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504536030</vt:r8>
  </property>
  <property fmtid="{D5CDD505-2E9C-101B-9397-08002B2CF9AE}" pid="3" name="_AuthorEmail">
    <vt:lpwstr>ebeenken@psdschools.org</vt:lpwstr>
  </property>
  <property fmtid="{D5CDD505-2E9C-101B-9397-08002B2CF9AE}" pid="4" name="_AuthorEmailDisplayName">
    <vt:lpwstr>Beenken, Elizabeth - KIN</vt:lpwstr>
  </property>
  <property fmtid="{D5CDD505-2E9C-101B-9397-08002B2CF9AE}" pid="5" name="_EmailSubject">
    <vt:lpwstr/>
  </property>
  <property fmtid="{D5CDD505-2E9C-101B-9397-08002B2CF9AE}" pid="6" name="_NewReviewCycle">
    <vt:lpwstr/>
  </property>
</Properties>
</file>